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8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8627-9C48-43C1-9181-5AD61AA56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2B5E-C56E-408D-8E3F-3CE0AAAB9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09B8-0A2F-4418-974B-C8AC8856F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A2C4C-12BD-443E-B130-287BB9804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28111-CDCB-45F9-8192-D7233EBDBC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3156B-36DC-49A1-AF22-A5CF01C513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2EF6E-DFC0-418B-8B65-C60C27F1AF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86639-7541-4FEC-B5D1-D24895E227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7BA59-6100-49E8-8C19-3A0221BB57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ADEA6-5D09-4889-97D5-A59CD7234E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E139C-3FAE-4B4C-AF86-8AE7D3003B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9093B-5A33-40F3-8F34-B7318CDB7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DFF1F-135A-4479-BF8E-AB8463302D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2DFE4-DD1F-48E7-A01B-9CCFD50AAF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98EE5-A0DF-40B8-90EA-92A82B0528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906D8-987A-499B-BEF5-61E5B68CAF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9F28F-C5BF-499E-A0C6-85FF165D01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F3E1-6507-44F5-85A2-9149B25C8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7342E-45ED-43F7-91EB-B36A9F423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7AEC-2E25-4C94-A9F0-F4797EFDE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15B0-E451-4372-B628-8690CC02E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FE393-5EFC-4C99-ADC7-556833B66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3F2B-338A-4272-B6CC-34657259E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C87C-C65E-4DA9-AB42-B53B1F3D0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E51F-C248-4125-B073-216C2650DAF9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BA32-EF88-454F-A4F2-A8E1F798E4E5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You may have heard this before somewhere…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900000" y="3789000"/>
            <a:ext cx="76327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Most of the world has climate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But in Britain they have ….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Weather!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B0E22-0526-40DC-888C-8987E4815D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Here is the diagram that on the wiki moves!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551628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re is one last animation on the wiki to remind you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871640" y="1270080"/>
            <a:ext cx="5400720" cy="432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C628-9A6E-4599-8097-1C5608AEA5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But weather forecasters will get caught out by high-pressure conditions.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Usually they will produce clear skies, but occasionally it's a little different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sinking air warms up, but there is a possibility that a temperature inversion could occur, where there is warmer air above cooler air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224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(usually it is the other way round in the atmosphere).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inversion happens because the clear skies mean the Earth's surface loses a lot of heat - there is no insulating layer of cloud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 cool surface means cool air temperatures near the surfac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s cool air is dense and hard to shift, so the warmer descending air sits on top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f this air is moist, the water vapour can condense into a dreary layer of cloud which hangs around for days, since the winds are too light to disperse it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D193-355F-498F-8956-F8B6011A71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is is what happened for some of us last week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re was an inversion layer that kept the cloud hanging abou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For others the problem was early morning mist that took a long time to clea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s there is no cloud, once the sun has gone down, heat is radiated out from the Earth into space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Falling temperatures allow any water vapour in the air to condense into low lying mist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t takes the sun a while in the morning to ‘burn it off’ – in other words warm up the air enough to evaporate the water droplets into water vapou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192EA-4C99-4121-A2E0-F4E1DB7AD4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Another issue with Anticylone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Because the air is pressing down and there is little wind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In cities, such as London, and other places too, the air gets a hazy look, both in Summer and in winter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This is because any pollution produced is stuck at a low level and builds up over time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In the past when everyone burnt coal on their fires, winter fogs could last for days. These were called smogs ( smoke + fog) and lead to many deaths from pneumonia, pleurisy and bronchitis.                                                               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3654-AC33-4DCB-AEF7-95C9ED2F02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58920" y="260280"/>
            <a:ext cx="5833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Choked streets: For years London was synonymous with thick fogs - indeed, the city's pea-soupers were immortalised in the works of Charles Dickens. But the smoke-laden fog that shrouded London from 5-9 December 1952 was the worst single incident of air pollution in the UK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Conductors walked in front of buses holding torches or flares in order to see street signs - and so drivers could see them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Coal deliveries: Although soon coal deliveries were to become a thing of the past, change came too late to save the thousands who fell prey to the trapped toxins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The smog of 1952 was thought to have killed at least 4,000 people - particularly the elderly and infirm - and the death rate remained above average up until Christmas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250920" y="335772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250920" y="620640"/>
            <a:ext cx="2663640" cy="26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8CCD-3228-4144-979B-4C80D9D161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697800" cy="502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8E5F-EBA0-4FE5-A325-F28E627D77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Next week we are going to look at an altogether more complex weather system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As part of that, you need to be familiar with various cloud types – so a small direction!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3DFD7-A750-4021-9BD5-05B2CB6C06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s method of cloud classification was proposed by Luke Howard (1803) who named the clouds based on their form: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irrus - </a:t>
            </a:r>
            <a:r>
              <a:rPr b="0" i="1" lang="en-US" sz="3200" spc="-1" strike="noStrike">
                <a:solidFill>
                  <a:srgbClr val="006699"/>
                </a:solidFill>
                <a:latin typeface="Comic Sans MS"/>
              </a:rPr>
              <a:t>cur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tratus - </a:t>
            </a:r>
            <a:r>
              <a:rPr b="0" i="1" lang="en-US" sz="3200" spc="-1" strike="noStrike">
                <a:solidFill>
                  <a:srgbClr val="006699"/>
                </a:solidFill>
                <a:latin typeface="Comic Sans MS"/>
              </a:rPr>
              <a:t>layer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umulus - </a:t>
            </a:r>
            <a:r>
              <a:rPr b="0" i="1" lang="en-US" sz="3200" spc="-1" strike="noStrike">
                <a:solidFill>
                  <a:srgbClr val="006699"/>
                </a:solidFill>
                <a:latin typeface="Comic Sans MS"/>
              </a:rPr>
              <a:t>heap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Nimbus - </a:t>
            </a:r>
            <a:r>
              <a:rPr b="0" i="1" lang="en-US" sz="3200" spc="-1" strike="noStrike">
                <a:solidFill>
                  <a:srgbClr val="006699"/>
                </a:solidFill>
                <a:latin typeface="Comic Sans MS"/>
              </a:rPr>
              <a:t>rain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d on their height: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240A-1D34-43C7-AA5F-FBEC833096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280360" cy="506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F021-1519-4C17-B4EB-D278FD6AD0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3529080" cy="22402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irrus &amp; cirrostratu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3644640"/>
            <a:ext cx="8229600" cy="26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 most common form of high-level clouds are thin and often wispy cirrus cloud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ypically found at heights greater than 6,000 meters,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Cirrus clouds are composed of ice crystals that originate from the freezing of supercooled water droplet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Cirrus generally occur in fair weather and point in the direction of air movement at their elevation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4932360" y="739800"/>
            <a:ext cx="2952720" cy="221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5063-5117-474F-B1BD-8D15CD1EE0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is is because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e are on the edge of several air masse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ll of which are having arguments with each other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d who wins changes all the tim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9AD0E-DEEA-415B-BFD1-EA9D3D451D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627280" y="102960"/>
            <a:ext cx="28814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Altocumulus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Middle layer cloud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2879640"/>
            <a:ext cx="864216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ltocumulus may appear as parallel bands or rounded masses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ypically a portion of an altocumulus cloud is shaded, a characteristic which makes them distinguishable from the high-level cloud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y are often come before a cold front which usually carries rain with it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Or altocumulus clouds on a warm and humid summer 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Comic Sans MS"/>
              </a:rPr>
              <a:t>morning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 is commonly followed by thunderstorms later in the day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611280" y="0"/>
            <a:ext cx="1882800" cy="2797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5651640" y="189000"/>
            <a:ext cx="3159000" cy="236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7F97-AF63-4FFA-A3B4-0B32EB7640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Alto stratu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4392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lto is middl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tratus is layere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Not much rain should come with this on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932360" y="1989000"/>
            <a:ext cx="3848040" cy="229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51F2-4143-47F9-8DDE-A6D6186049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92360" y="404280"/>
            <a:ext cx="21592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omic Sans MS"/>
              </a:rPr>
              <a:t>Nimbo-</a:t>
            </a:r>
            <a:br>
              <a:rPr sz="3600"/>
            </a:br>
            <a:r>
              <a:rPr b="0" lang="en-GB" sz="3600" spc="-1" strike="noStrike">
                <a:solidFill>
                  <a:srgbClr val="006666"/>
                </a:solidFill>
                <a:latin typeface="Comic Sans MS"/>
              </a:rPr>
              <a:t>stratu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920" y="3139560"/>
            <a:ext cx="864216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Nimbostratus are dark, low-level clouds at a height of 2,000 meter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Nimbo meaning rain and stratus meaning layer gives continuous not-very-heavy rain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However, when temperatures are cold enough, these clouds may also contain ice particles and snow.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5508720" y="189000"/>
            <a:ext cx="3456000" cy="2333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324000" y="189000"/>
            <a:ext cx="3384360" cy="25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C50D-471C-4799-AEC8-F21D63E87B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280" y="102960"/>
            <a:ext cx="4680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Stratocumulu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2995560"/>
            <a:ext cx="8642160" cy="36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Stratus is a layer and cumulus means heap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So the clouds form a layer of heaps, and can give quite heavy showers, but they do not usally last too lo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They vary in colour from dark grey to light grey and may appear as rounded masses, rolls, etc., with breaks of clear sky in between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4572000" y="189000"/>
            <a:ext cx="3979800" cy="269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3CB60-2369-4167-8045-850D17FA9C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Fog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g is the lowest cloud of all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763640" y="2276640"/>
            <a:ext cx="5761080" cy="43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6D2A-736C-479E-8DC1-27A3484EEC7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102960"/>
            <a:ext cx="864072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Fair weather Cumulu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4221000"/>
            <a:ext cx="8642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se are know as fair weather cumulus ( heaps) small white like cotton wool ball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y have flat bottoms which are quite low down and a smallish heap of white cloud abov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556000" y="836640"/>
            <a:ext cx="4248000" cy="29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74ED-31B2-43B1-A7B7-F5EAB401B2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You may sometimes see one of these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cumulonimbu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4292280"/>
            <a:ext cx="86421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bottom is flat and black, often with the rain already falling out of it in huge drops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Quite often there is thunder and lightening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‘heap’ part reaches high into the sky – often to the level of the cirrus cloud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2340000" y="1125360"/>
            <a:ext cx="4525920" cy="30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F5F9-A83A-4953-8FED-72E2E6C3A6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207280" cy="615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3C3D-A5C7-4254-A3FE-76266A59CF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High’s and Low’s bring us different weather!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4240080" cy="46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FC25-7E2D-41F4-AECA-B3144503B4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e are going to watch a video (I hope!)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 want you to notice the weather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e are then going to talk about what causes it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 you have seen (??)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was the weather like in the video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s due to a pressure system called an anticyclon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e are going to see what an anticyclone is lik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7AD18-1AFE-4975-B7F6-6A78151820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eather on Friday at Midday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7960" y="1052280"/>
            <a:ext cx="42447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Does anyone know what these lines are called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hat do they measure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hy do you think the word HIGH is written in the middle over the UK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f you were in the UK on Friday what was your weather like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Notice that compared with the low pressure, the lines are widely spaced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250920" y="1484280"/>
            <a:ext cx="4184640" cy="496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BEF0-7B94-4191-92CD-88CED5CCEB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Here are the isobars again. What does the other map show?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Where the high is, what is the wind like?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Which direction is the wind flowing around the high?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Look at the spacing of the isobars around the high and the low. What do you notice?</a:t>
            </a:r>
            <a:endParaRPr b="0" lang="en-US" sz="24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83240" y="1844640"/>
            <a:ext cx="4154400" cy="4684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3936960" cy="46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2478-6F1E-49F4-8134-545171B7E2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What do you notice about the cloud?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The cloud to the NW of the UK is a thick layer of cloud. Do you know what that is called?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The cloud over southern France and South Spain is little lumps. Do you know what that is called?</a:t>
            </a:r>
            <a:endParaRPr b="0" lang="en-US" sz="24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886200" cy="4609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1720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FC28-BEF8-4EB9-89BE-A2E2D4C45C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So an anticyclone has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High pressur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Hardly any wind at the centr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Very little clou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Very light winds around the outside going clockwise on this occasion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n fact in the northern hemisphere ALL anticyclones have winds rotating in a clockwise direction. How do you think they rotate in the southern hemisphere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e rotation is due to the fact that earth is spinning known as the </a:t>
            </a: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oriolis Effect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F11F-BC27-42D2-A396-EEA659FFC9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So why does high pressure usually give clear skies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air is a high pressure, so it sinks towards the ground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s the air descends, the molecules become compressed, the pressure increases and it warms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en air is warming, any moisture in the atmosphere is evaporated so no clouds can form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sky is clear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nticyclones can be very large, typically at least 3,000 km wide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nce they become established, they can give several days  (or even longer) of settled weather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AF7BA-2AA3-45B2-8D15-CA6F353FB8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22:19:33Z</dcterms:created>
  <dc:creator>Lindy</dc:creator>
  <dc:description/>
  <dc:language>en-US</dc:language>
  <cp:lastModifiedBy>Lindy</cp:lastModifiedBy>
  <dcterms:modified xsi:type="dcterms:W3CDTF">2008-09-29T12:29:33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